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13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A894-F514-4A09-BCBC-C94390662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C2ED-D4E8-4549-A822-7477F9621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1A4E-E12E-4053-B379-12EDC543F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D2ED-F1AF-4C80-A0AF-B1489A136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6919-9DA3-4798-8C47-3ED35015F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B416-B30F-44E8-8E2F-E4F3DE5EC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B360-795E-48B1-A277-4DC961334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C5AF-ADCD-492A-924A-B2CE11F38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B3D0-A4D6-4BEA-961A-070F9D34B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A167-0DBE-4CB8-8F59-19D2EE356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A41F-92F7-4261-900E-067757C5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5147-67C1-4FE7-B575-3119C2079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6DD58-01A1-453B-B7A1-794F970A9A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8.jpeg"/><Relationship Id="rId16" Type="http://schemas.openxmlformats.org/officeDocument/2006/relationships/image" Target="../media/image8.jpeg"/><Relationship Id="rId17" Type="http://schemas.openxmlformats.org/officeDocument/2006/relationships/image" Target="../media/image8.jpeg"/><Relationship Id="rId18" Type="http://schemas.openxmlformats.org/officeDocument/2006/relationships/image" Target="../media/image8.jpeg"/><Relationship Id="rId19" Type="http://schemas.openxmlformats.org/officeDocument/2006/relationships/image" Target="../media/image8.jpeg"/><Relationship Id="rId20" Type="http://schemas.openxmlformats.org/officeDocument/2006/relationships/image" Target="../media/image8.jpeg"/><Relationship Id="rId21" Type="http://schemas.openxmlformats.org/officeDocument/2006/relationships/image" Target="../media/image8.jpeg"/><Relationship Id="rId22" Type="http://schemas.openxmlformats.org/officeDocument/2006/relationships/image" Target="../media/image8.jpeg"/><Relationship Id="rId23" Type="http://schemas.openxmlformats.org/officeDocument/2006/relationships/image" Target="../media/image9.png"/><Relationship Id="rId2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image" Target="../media/image12.jpeg"/><Relationship Id="rId12" Type="http://schemas.openxmlformats.org/officeDocument/2006/relationships/image" Target="../media/image12.jpeg"/><Relationship Id="rId13" Type="http://schemas.openxmlformats.org/officeDocument/2006/relationships/image" Target="../media/image12.jpeg"/><Relationship Id="rId14" Type="http://schemas.openxmlformats.org/officeDocument/2006/relationships/image" Target="../media/image12.jpeg"/><Relationship Id="rId15" Type="http://schemas.openxmlformats.org/officeDocument/2006/relationships/image" Target="../media/image12.jpeg"/><Relationship Id="rId16" Type="http://schemas.openxmlformats.org/officeDocument/2006/relationships/image" Target="../media/image12.jpeg"/><Relationship Id="rId17" Type="http://schemas.openxmlformats.org/officeDocument/2006/relationships/image" Target="../media/image12.jpeg"/><Relationship Id="rId18" Type="http://schemas.openxmlformats.org/officeDocument/2006/relationships/image" Target="../media/image12.jpeg"/><Relationship Id="rId19" Type="http://schemas.openxmlformats.org/officeDocument/2006/relationships/image" Target="../media/image12.jpeg"/><Relationship Id="rId20" Type="http://schemas.openxmlformats.org/officeDocument/2006/relationships/image" Target="../media/image12.jpeg"/><Relationship Id="rId21" Type="http://schemas.openxmlformats.org/officeDocument/2006/relationships/image" Target="../media/image12.jpeg"/><Relationship Id="rId22" Type="http://schemas.openxmlformats.org/officeDocument/2006/relationships/image" Target="../media/image12.jpeg"/><Relationship Id="rId2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3.jpeg"/><Relationship Id="rId8" Type="http://schemas.openxmlformats.org/officeDocument/2006/relationships/image" Target="../media/image13.jpeg"/><Relationship Id="rId9" Type="http://schemas.openxmlformats.org/officeDocument/2006/relationships/image" Target="../media/image13.jpeg"/><Relationship Id="rId10" Type="http://schemas.openxmlformats.org/officeDocument/2006/relationships/image" Target="../media/image13.jpe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image" Target="../media/image18.jpeg"/><Relationship Id="rId7" Type="http://schemas.openxmlformats.org/officeDocument/2006/relationships/image" Target="../media/image18.jpeg"/><Relationship Id="rId8" Type="http://schemas.openxmlformats.org/officeDocument/2006/relationships/image" Target="../media/image18.jpeg"/><Relationship Id="rId9" Type="http://schemas.openxmlformats.org/officeDocument/2006/relationships/image" Target="../media/image18.jpeg"/><Relationship Id="rId10" Type="http://schemas.openxmlformats.org/officeDocument/2006/relationships/image" Target="../media/image18.jpeg"/><Relationship Id="rId11" Type="http://schemas.openxmlformats.org/officeDocument/2006/relationships/image" Target="../media/image18.jpeg"/><Relationship Id="rId12" Type="http://schemas.openxmlformats.org/officeDocument/2006/relationships/image" Target="../media/image18.jpeg"/><Relationship Id="rId13" Type="http://schemas.openxmlformats.org/officeDocument/2006/relationships/image" Target="../media/image18.jpeg"/><Relationship Id="rId14" Type="http://schemas.openxmlformats.org/officeDocument/2006/relationships/image" Target="../media/image18.jpeg"/><Relationship Id="rId15" Type="http://schemas.openxmlformats.org/officeDocument/2006/relationships/image" Target="../media/image18.jpeg"/><Relationship Id="rId16" Type="http://schemas.openxmlformats.org/officeDocument/2006/relationships/image" Target="../media/image18.jpeg"/><Relationship Id="rId17" Type="http://schemas.openxmlformats.org/officeDocument/2006/relationships/image" Target="../media/image18.jpeg"/><Relationship Id="rId18" Type="http://schemas.openxmlformats.org/officeDocument/2006/relationships/image" Target="../media/image18.jpeg"/><Relationship Id="rId19" Type="http://schemas.openxmlformats.org/officeDocument/2006/relationships/image" Target="../media/image18.jpeg"/><Relationship Id="rId20" Type="http://schemas.openxmlformats.org/officeDocument/2006/relationships/image" Target="../media/image19.png"/><Relationship Id="rId21" Type="http://schemas.openxmlformats.org/officeDocument/2006/relationships/image" Target="../media/image20.jpeg"/><Relationship Id="rId22" Type="http://schemas.openxmlformats.org/officeDocument/2006/relationships/image" Target="../media/image20.jpeg"/><Relationship Id="rId23" Type="http://schemas.openxmlformats.org/officeDocument/2006/relationships/image" Target="../media/image20.jpeg"/><Relationship Id="rId24" Type="http://schemas.openxmlformats.org/officeDocument/2006/relationships/image" Target="../media/image20.jpeg"/><Relationship Id="rId25" Type="http://schemas.openxmlformats.org/officeDocument/2006/relationships/image" Target="../media/image20.jpeg"/><Relationship Id="rId26" Type="http://schemas.openxmlformats.org/officeDocument/2006/relationships/image" Target="../media/image20.jpeg"/><Relationship Id="rId27" Type="http://schemas.openxmlformats.org/officeDocument/2006/relationships/image" Target="../media/image20.jpeg"/><Relationship Id="rId28" Type="http://schemas.openxmlformats.org/officeDocument/2006/relationships/image" Target="../media/image20.jpeg"/><Relationship Id="rId29" Type="http://schemas.openxmlformats.org/officeDocument/2006/relationships/image" Target="../media/image20.jpeg"/><Relationship Id="rId30" Type="http://schemas.openxmlformats.org/officeDocument/2006/relationships/image" Target="../media/image20.jpeg"/><Relationship Id="rId31" Type="http://schemas.openxmlformats.org/officeDocument/2006/relationships/image" Target="../media/image20.jpeg"/><Relationship Id="rId32" Type="http://schemas.openxmlformats.org/officeDocument/2006/relationships/image" Target="../media/image20.jpeg"/><Relationship Id="rId33" Type="http://schemas.openxmlformats.org/officeDocument/2006/relationships/image" Target="../media/image20.jpeg"/><Relationship Id="rId34" Type="http://schemas.openxmlformats.org/officeDocument/2006/relationships/image" Target="../media/image20.jpeg"/><Relationship Id="rId3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192000">
            <a:off x="376200" y="-1080"/>
            <a:ext cx="845820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223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fa9bf"/>
                    </a:gs>
                    <a:gs pos="100000">
                      <a:srgbClr val="78815b"/>
                    </a:gs>
                  </a:gsLst>
                  <a:path path="rect">
                    <a:fillToRect l="50000" t="50000" r="50000" b="50000"/>
                  </a:path>
                </a:gradFill>
                <a:latin typeface="Inkpen2 Chords"/>
              </a:rPr>
              <a:t>Pythagoras and his Theorem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fa9bf"/>
                  </a:gs>
                  <a:gs pos="100000">
                    <a:srgbClr val="78815b"/>
                  </a:gs>
                </a:gsLst>
                <a:path path="rect">
                  <a:fillToRect l="50000" t="50000" r="50000" b="50000"/>
                </a:path>
              </a:gradFill>
              <a:latin typeface="Inkpen2 Chords"/>
              <a:ea typeface="Inkpen2 Chords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332840" y="4419720"/>
            <a:ext cx="18111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 rot="172200">
            <a:off x="220320" y="225000"/>
            <a:ext cx="8686800" cy="3051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Triangle">
              <a:avLst>
                <a:gd name="adj" fmla="val 80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6dcac"/>
                    </a:gs>
                    <a:gs pos="100000">
                      <a:srgbClr val="e6dcac"/>
                    </a:gs>
                  </a:gsLst>
                  <a:path path="rect">
                    <a:fillToRect l="50000" t="50000" r="50000" b="50000"/>
                  </a:path>
                </a:gradFill>
                <a:latin typeface="HYSinMun-MyeongJo"/>
              </a:rPr>
              <a:t>Pythagoras was a superb mathematician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6dcac"/>
                  </a:gs>
                  <a:gs pos="100000">
                    <a:srgbClr val="e6dcac"/>
                  </a:gs>
                </a:gsLst>
                <a:path path="rect">
                  <a:fillToRect l="50000" t="50000" r="50000" b="50000"/>
                </a:path>
              </a:gradFill>
              <a:latin typeface="HYSinMun-MyeongJo"/>
              <a:ea typeface="HYSinMun-MyeongJ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6dcac"/>
                    </a:gs>
                    <a:gs pos="100000">
                      <a:srgbClr val="e6dcac"/>
                    </a:gs>
                  </a:gsLst>
                  <a:path path="rect">
                    <a:fillToRect l="50000" t="50000" r="50000" b="50000"/>
                  </a:path>
                </a:gradFill>
                <a:latin typeface="HYSinMun-MyeongJo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6dcac"/>
                    </a:gs>
                    <a:gs pos="100000">
                      <a:srgbClr val="e6dcac"/>
                    </a:gs>
                  </a:gsLst>
                  <a:path path="rect">
                    <a:fillToRect l="50000" t="50000" r="50000" b="50000"/>
                  </a:path>
                </a:gradFill>
                <a:latin typeface="HYSinMun-MyeongJo"/>
              </a:rPr>
              <a:t>who left an etern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6dcac"/>
                  </a:gs>
                  <a:gs pos="100000">
                    <a:srgbClr val="e6dcac"/>
                  </a:gs>
                </a:gsLst>
                <a:path path="rect">
                  <a:fillToRect l="50000" t="50000" r="50000" b="50000"/>
                </a:path>
              </a:gradFill>
              <a:latin typeface="HYSinMun-MyeongJo"/>
              <a:ea typeface="HYSinMun-MyeongJ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6dcac"/>
                    </a:gs>
                    <a:gs pos="100000">
                      <a:srgbClr val="e6dcac"/>
                    </a:gs>
                  </a:gsLst>
                  <a:path path="rect">
                    <a:fillToRect l="50000" t="50000" r="50000" b="50000"/>
                  </a:path>
                </a:gradFill>
                <a:latin typeface="HYSinMun-MyeongJo"/>
              </a:rPr>
              <a:t>impact on the Mathematic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6dcac"/>
                  </a:gs>
                  <a:gs pos="100000">
                    <a:srgbClr val="e6dcac"/>
                  </a:gs>
                </a:gsLst>
                <a:path path="rect">
                  <a:fillToRect l="50000" t="50000" r="50000" b="50000"/>
                </a:path>
              </a:gradFill>
              <a:latin typeface="HYSinMun-MyeongJo"/>
              <a:ea typeface="HYSinMun-MyeongJ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6dcac"/>
                    </a:gs>
                    <a:gs pos="100000">
                      <a:srgbClr val="e6dcac"/>
                    </a:gs>
                  </a:gsLst>
                  <a:path path="rect">
                    <a:fillToRect l="50000" t="50000" r="50000" b="50000"/>
                  </a:path>
                </a:gradFill>
                <a:latin typeface="HYSinMun-MyeongJo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6dcac"/>
                    </a:gs>
                    <a:gs pos="100000">
                      <a:srgbClr val="e6dcac"/>
                    </a:gs>
                  </a:gsLst>
                  <a:path path="rect">
                    <a:fillToRect l="50000" t="50000" r="50000" b="50000"/>
                  </a:path>
                </a:gradFill>
                <a:latin typeface="HYSinMun-MyeongJo"/>
              </a:rPr>
              <a:t>we learn in school toda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6dcac"/>
                  </a:gs>
                  <a:gs pos="100000">
                    <a:srgbClr val="e6dcac"/>
                  </a:gs>
                </a:gsLst>
                <a:path path="rect">
                  <a:fillToRect l="50000" t="50000" r="50000" b="50000"/>
                </a:path>
              </a:gradFill>
              <a:latin typeface="HYSinMun-MyeongJo"/>
              <a:ea typeface="HYSinMun-MyeongJ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6dcac"/>
                    </a:gs>
                    <a:gs pos="100000">
                      <a:srgbClr val="e6dcac"/>
                    </a:gs>
                  </a:gsLst>
                  <a:path path="rect">
                    <a:fillToRect l="50000" t="50000" r="50000" b="50000"/>
                  </a:path>
                </a:gradFill>
                <a:latin typeface="HYSinMun-MyeongJo"/>
              </a:rPr>
              <a:t>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6dcac"/>
                  </a:gs>
                  <a:gs pos="100000">
                    <a:srgbClr val="e6dcac"/>
                  </a:gs>
                </a:gsLst>
                <a:path path="rect">
                  <a:fillToRect l="50000" t="50000" r="50000" b="50000"/>
                </a:path>
              </a:gradFill>
              <a:latin typeface="HYSinMun-MyeongJo"/>
              <a:ea typeface="HYSinMun-MyeongJo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28600" y="3022560"/>
            <a:ext cx="8686800" cy="36068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Triangle">
              <a:avLst>
                <a:gd name="adj" fmla="val 87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ae3b7"/>
                    </a:gs>
                    <a:gs pos="100000">
                      <a:srgbClr val="fbe4ae"/>
                    </a:gs>
                  </a:gsLst>
                  <a:path path="rect">
                    <a:fillToRect l="50000" t="50000" r="50000" b="50000"/>
                  </a:path>
                </a:gradFill>
                <a:latin typeface="High Tower Text"/>
              </a:rPr>
              <a:t>It is also thanks to him tha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ae3b7"/>
                  </a:gs>
                  <a:gs pos="100000">
                    <a:srgbClr val="fbe4ae"/>
                  </a:gs>
                </a:gsLst>
                <a:path path="rect">
                  <a:fillToRect l="50000" t="50000" r="50000" b="50000"/>
                </a:path>
              </a:gradFill>
              <a:latin typeface="High Tower Text"/>
              <a:ea typeface="High Tower Tex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ae3b7"/>
                    </a:gs>
                    <a:gs pos="100000">
                      <a:srgbClr val="fbe4ae"/>
                    </a:gs>
                  </a:gsLst>
                  <a:path path="rect">
                    <a:fillToRect l="50000" t="50000" r="50000" b="50000"/>
                  </a:path>
                </a:gradFill>
                <a:latin typeface="High Tower Text"/>
              </a:rPr>
              <a:t>many other mathematicians were able to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ae3b7"/>
                  </a:gs>
                  <a:gs pos="100000">
                    <a:srgbClr val="fbe4ae"/>
                  </a:gs>
                </a:gsLst>
                <a:path path="rect">
                  <a:fillToRect l="50000" t="50000" r="50000" b="50000"/>
                </a:path>
              </a:gradFill>
              <a:latin typeface="High Tower Text"/>
              <a:ea typeface="High Tower Tex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ae3b7"/>
                    </a:gs>
                    <a:gs pos="100000">
                      <a:srgbClr val="fbe4ae"/>
                    </a:gs>
                  </a:gsLst>
                  <a:path path="rect">
                    <a:fillToRect l="50000" t="50000" r="50000" b="50000"/>
                  </a:path>
                </a:gradFill>
                <a:latin typeface="High Tower Text"/>
              </a:rPr>
              <a:t>make great discoveri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ae3b7"/>
                  </a:gs>
                  <a:gs pos="100000">
                    <a:srgbClr val="fbe4ae"/>
                  </a:gs>
                </a:gsLst>
                <a:path path="rect">
                  <a:fillToRect l="50000" t="50000" r="50000" b="50000"/>
                </a:path>
              </a:gradFill>
              <a:latin typeface="High Tower Text"/>
              <a:ea typeface="High Tower Tex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ae3b7"/>
                    </a:gs>
                    <a:gs pos="100000">
                      <a:srgbClr val="fbe4ae"/>
                    </a:gs>
                  </a:gsLst>
                  <a:path path="rect">
                    <a:fillToRect l="50000" t="50000" r="50000" b="50000"/>
                  </a:path>
                </a:gradFill>
                <a:latin typeface="High Tower Text"/>
              </a:rPr>
              <a:t>aided by the theorem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ae3b7"/>
                  </a:gs>
                  <a:gs pos="100000">
                    <a:srgbClr val="fbe4ae"/>
                  </a:gs>
                </a:gsLst>
                <a:path path="rect">
                  <a:fillToRect l="50000" t="50000" r="50000" b="50000"/>
                </a:path>
              </a:gradFill>
              <a:latin typeface="High Tower Text"/>
              <a:ea typeface="High Tower Tex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ae3b7"/>
                    </a:gs>
                    <a:gs pos="100000">
                      <a:srgbClr val="fbe4ae"/>
                    </a:gs>
                  </a:gsLst>
                  <a:path path="rect">
                    <a:fillToRect l="50000" t="50000" r="50000" b="50000"/>
                  </a:path>
                </a:gradFill>
                <a:latin typeface="High Tower Text"/>
              </a:rPr>
              <a:t>he found over 1500 years ago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ae3b7"/>
                  </a:gs>
                  <a:gs pos="100000">
                    <a:srgbClr val="fbe4ae"/>
                  </a:gs>
                </a:gsLst>
                <a:path path="rect">
                  <a:fillToRect l="50000" t="50000" r="50000" b="50000"/>
                </a:path>
              </a:gradFill>
              <a:latin typeface="High Tower Text"/>
              <a:ea typeface="High Tower Tex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0" y="228600"/>
            <a:ext cx="89917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2b2b2"/>
                    </a:gs>
                    <a:gs pos="100000">
                      <a:srgbClr val="1374bd"/>
                    </a:gs>
                  </a:gsLst>
                  <a:path path="rect">
                    <a:fillToRect l="50000" t="50000" r="50000" b="50000"/>
                  </a:path>
                </a:gradFill>
                <a:latin typeface="High Tower Text"/>
              </a:rPr>
              <a:t>Pythagoras, the marvellous Ionic Greek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2b2b2"/>
                  </a:gs>
                  <a:gs pos="100000">
                    <a:srgbClr val="1374bd"/>
                  </a:gs>
                </a:gsLst>
                <a:path path="rect">
                  <a:fillToRect l="50000" t="50000" r="50000" b="50000"/>
                </a:path>
              </a:gradFill>
              <a:latin typeface="High Tower Text"/>
              <a:ea typeface="High Tower Tex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2b2b2"/>
                    </a:gs>
                    <a:gs pos="100000">
                      <a:srgbClr val="1374bd"/>
                    </a:gs>
                  </a:gsLst>
                  <a:path path="rect">
                    <a:fillToRect l="50000" t="50000" r="50000" b="50000"/>
                  </a:path>
                </a:gradFill>
                <a:latin typeface="High Tower Text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2b2b2"/>
                    </a:gs>
                    <a:gs pos="100000">
                      <a:srgbClr val="1374bd"/>
                    </a:gs>
                  </a:gsLst>
                  <a:path path="rect">
                    <a:fillToRect l="50000" t="50000" r="50000" b="50000"/>
                  </a:path>
                </a:gradFill>
                <a:latin typeface="High Tower Text"/>
              </a:rPr>
              <a:t>mathematician, scientist, astromomer and philosoph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2b2b2"/>
                  </a:gs>
                  <a:gs pos="100000">
                    <a:srgbClr val="1374bd"/>
                  </a:gs>
                </a:gsLst>
                <a:path path="rect">
                  <a:fillToRect l="50000" t="50000" r="50000" b="50000"/>
                </a:path>
              </a:gradFill>
              <a:latin typeface="High Tower Text"/>
              <a:ea typeface="High Tower Tex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2b2b2"/>
                    </a:gs>
                    <a:gs pos="100000">
                      <a:srgbClr val="1374bd"/>
                    </a:gs>
                  </a:gsLst>
                  <a:path path="rect">
                    <a:fillToRect l="50000" t="50000" r="50000" b="50000"/>
                  </a:path>
                </a:gradFill>
                <a:latin typeface="High Tower Text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2b2b2"/>
                    </a:gs>
                    <a:gs pos="100000">
                      <a:srgbClr val="1374bd"/>
                    </a:gs>
                  </a:gsLst>
                  <a:path path="rect">
                    <a:fillToRect l="50000" t="50000" r="50000" b="50000"/>
                  </a:path>
                </a:gradFill>
                <a:latin typeface="High Tower Text"/>
              </a:rPr>
              <a:t>was born in c.582BC in Samos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2b2b2"/>
                  </a:gs>
                  <a:gs pos="100000">
                    <a:srgbClr val="1374bd"/>
                  </a:gs>
                </a:gsLst>
                <a:path path="rect">
                  <a:fillToRect l="50000" t="50000" r="50000" b="50000"/>
                </a:path>
              </a:gradFill>
              <a:latin typeface="High Tower Text"/>
              <a:ea typeface="High Tower Tex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28600" y="2133720"/>
            <a:ext cx="86104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cc3300"/>
                    </a:gs>
                  </a:gsLst>
                  <a:path path="rect">
                    <a:fillToRect l="50000" t="50000" r="50000" b="50000"/>
                  </a:path>
                </a:gradFill>
                <a:latin typeface="High Tower Text"/>
              </a:rPr>
              <a:t>He is known as the 'Father of Numbers'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cc3300"/>
                  </a:gs>
                </a:gsLst>
                <a:path path="rect">
                  <a:fillToRect l="50000" t="50000" r="50000" b="50000"/>
                </a:path>
              </a:gradFill>
              <a:latin typeface="High Tower Text"/>
              <a:ea typeface="High Tower Tex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cc3300"/>
                    </a:gs>
                  </a:gsLst>
                  <a:path path="rect">
                    <a:fillToRect l="50000" t="50000" r="50000" b="50000"/>
                  </a:path>
                </a:gradFill>
                <a:latin typeface="High Tower Text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cc3300"/>
                    </a:gs>
                  </a:gsLst>
                  <a:path path="rect">
                    <a:fillToRect l="50000" t="50000" r="50000" b="50000"/>
                  </a:path>
                </a:gradFill>
                <a:latin typeface="High Tower Text"/>
              </a:rPr>
              <a:t>and is most famous for his discovery of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cc3300"/>
                  </a:gs>
                </a:gsLst>
                <a:path path="rect">
                  <a:fillToRect l="50000" t="50000" r="50000" b="50000"/>
                </a:path>
              </a:gradFill>
              <a:latin typeface="High Tower Text"/>
              <a:ea typeface="High Tower Tex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cc3300"/>
                    </a:gs>
                  </a:gsLst>
                  <a:path path="rect">
                    <a:fillToRect l="50000" t="50000" r="50000" b="50000"/>
                  </a:path>
                </a:gradFill>
                <a:latin typeface="High Tower Text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cc3300"/>
                    </a:gs>
                  </a:gsLst>
                  <a:path path="rect">
                    <a:fillToRect l="50000" t="50000" r="50000" b="50000"/>
                  </a:path>
                </a:gradFill>
                <a:latin typeface="High Tower Text"/>
              </a:rPr>
              <a:t>Pythagoras' Theorem, which took his name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cc3300"/>
                  </a:gs>
                </a:gsLst>
                <a:path path="rect">
                  <a:fillToRect l="50000" t="50000" r="50000" b="50000"/>
                </a:path>
              </a:gradFill>
              <a:latin typeface="High Tower Text"/>
              <a:ea typeface="High Tower Text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2079720" cy="21718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3200400" y="4267080"/>
            <a:ext cx="548640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aa1a"/>
                    </a:gs>
                    <a:gs pos="100000">
                      <a:srgbClr val="e0c256"/>
                    </a:gs>
                  </a:gsLst>
                  <a:path path="rect">
                    <a:fillToRect l="50000" t="50000" r="50000" b="50000"/>
                  </a:path>
                </a:gradFill>
                <a:latin typeface="High Tower Text"/>
              </a:rPr>
              <a:t>As a young man, he fled Samo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aa1a"/>
                  </a:gs>
                  <a:gs pos="100000">
                    <a:srgbClr val="e0c256"/>
                  </a:gs>
                </a:gsLst>
                <a:path path="rect">
                  <a:fillToRect l="50000" t="50000" r="50000" b="50000"/>
                </a:path>
              </a:gradFill>
              <a:latin typeface="High Tower Text"/>
              <a:ea typeface="High Tower Tex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aa1a"/>
                    </a:gs>
                    <a:gs pos="100000">
                      <a:srgbClr val="e0c256"/>
                    </a:gs>
                  </a:gsLst>
                  <a:path path="rect">
                    <a:fillToRect l="50000" t="50000" r="50000" b="50000"/>
                  </a:path>
                </a:gradFill>
                <a:latin typeface="High Tower Text"/>
              </a:rPr>
              <a:t>to Croton, in Italy to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aa1a"/>
                  </a:gs>
                  <a:gs pos="100000">
                    <a:srgbClr val="e0c256"/>
                  </a:gs>
                </a:gsLst>
                <a:path path="rect">
                  <a:fillToRect l="50000" t="50000" r="50000" b="50000"/>
                </a:path>
              </a:gradFill>
              <a:latin typeface="High Tower Text"/>
              <a:ea typeface="High Tower Tex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aa1a"/>
                    </a:gs>
                    <a:gs pos="100000">
                      <a:srgbClr val="e0c256"/>
                    </a:gs>
                  </a:gsLst>
                  <a:path path="rect">
                    <a:fillToRect l="50000" t="50000" r="50000" b="50000"/>
                  </a:path>
                </a:gradFill>
                <a:latin typeface="High Tower Text"/>
              </a:rPr>
              <a:t>escape Polycrates' tyrann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aa1a"/>
                  </a:gs>
                  <a:gs pos="100000">
                    <a:srgbClr val="e0c256"/>
                  </a:gs>
                </a:gsLst>
                <a:path path="rect">
                  <a:fillToRect l="50000" t="50000" r="50000" b="50000"/>
                </a:path>
              </a:gradFill>
              <a:latin typeface="High Tower Text"/>
              <a:ea typeface="High Tower Tex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52280" y="228600"/>
            <a:ext cx="883944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cc3300"/>
                    </a:gs>
                  </a:gsLst>
                  <a:path path="rect">
                    <a:fillToRect l="50000" t="50000" r="50000" b="50000"/>
                  </a:path>
                </a:gradFill>
                <a:latin typeface="High Tower Text"/>
              </a:rPr>
              <a:t>Thales, a philosopher, was so impress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cc3300"/>
                  </a:gs>
                </a:gsLst>
                <a:path path="rect">
                  <a:fillToRect l="50000" t="50000" r="50000" b="50000"/>
                </a:path>
              </a:gradFill>
              <a:latin typeface="High Tower Text"/>
              <a:ea typeface="High Tower Tex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cc3300"/>
                    </a:gs>
                  </a:gsLst>
                  <a:path path="rect">
                    <a:fillToRect l="50000" t="50000" r="50000" b="50000"/>
                  </a:path>
                </a:gradFill>
                <a:latin typeface="High Tower Text"/>
              </a:rPr>
              <a:t>with Pythagoras' mathematical skil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cc3300"/>
                  </a:gs>
                </a:gsLst>
                <a:path path="rect">
                  <a:fillToRect l="50000" t="50000" r="50000" b="50000"/>
                </a:path>
              </a:gradFill>
              <a:latin typeface="High Tower Text"/>
              <a:ea typeface="High Tower Tex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cc3300"/>
                    </a:gs>
                  </a:gsLst>
                  <a:path path="rect">
                    <a:fillToRect l="50000" t="50000" r="50000" b="50000"/>
                  </a:path>
                </a:gradFill>
                <a:latin typeface="High Tower Text"/>
              </a:rPr>
              <a:t>that he advised him to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cc3300"/>
                  </a:gs>
                </a:gsLst>
                <a:path path="rect">
                  <a:fillToRect l="50000" t="50000" r="50000" b="50000"/>
                </a:path>
              </a:gradFill>
              <a:latin typeface="High Tower Text"/>
              <a:ea typeface="High Tower Tex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cc3300"/>
                    </a:gs>
                  </a:gsLst>
                  <a:path path="rect">
                    <a:fillToRect l="50000" t="50000" r="50000" b="50000"/>
                  </a:path>
                </a:gradFill>
                <a:latin typeface="High Tower Text"/>
              </a:rPr>
              <a:t>seek schooling in Memphis. He learned geometry i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cc3300"/>
                  </a:gs>
                </a:gsLst>
                <a:path path="rect">
                  <a:fillToRect l="50000" t="50000" r="50000" b="50000"/>
                </a:path>
              </a:gradFill>
              <a:latin typeface="High Tower Text"/>
              <a:ea typeface="High Tower Tex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cc3300"/>
                    </a:gs>
                  </a:gsLst>
                  <a:path path="rect">
                    <a:fillToRect l="50000" t="50000" r="50000" b="50000"/>
                  </a:path>
                </a:gradFill>
                <a:latin typeface="High Tower Text"/>
              </a:rPr>
              <a:t>Phoenicia..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cc3300"/>
                  </a:gs>
                </a:gsLst>
                <a:path path="rect">
                  <a:fillToRect l="50000" t="50000" r="50000" b="50000"/>
                </a:path>
              </a:gradFill>
              <a:latin typeface="High Tower Text"/>
              <a:ea typeface="High Tower Tex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8600" y="2514600"/>
            <a:ext cx="8705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8d117"/>
                    </a:gs>
                    <a:gs pos="100000">
                      <a:srgbClr val="7f69b5"/>
                    </a:gs>
                  </a:gsLst>
                  <a:path path="rect">
                    <a:fillToRect l="50000" t="50000" r="50000" b="50000"/>
                  </a:path>
                </a:gradFill>
                <a:latin typeface="High Tower Text"/>
              </a:rPr>
              <a:t>...which may have inspired the discover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8d117"/>
                  </a:gs>
                  <a:gs pos="100000">
                    <a:srgbClr val="7f69b5"/>
                  </a:gs>
                </a:gsLst>
                <a:path path="rect">
                  <a:fillToRect l="50000" t="50000" r="50000" b="50000"/>
                </a:path>
              </a:gradFill>
              <a:latin typeface="High Tower Text"/>
              <a:ea typeface="High Tower Tex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8d117"/>
                    </a:gs>
                    <a:gs pos="100000">
                      <a:srgbClr val="7f69b5"/>
                    </a:gs>
                  </a:gsLst>
                  <a:path path="rect">
                    <a:fillToRect l="50000" t="50000" r="50000" b="50000"/>
                  </a:path>
                </a:gradFill>
                <a:latin typeface="High Tower Text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8d117"/>
                    </a:gs>
                    <a:gs pos="100000">
                      <a:srgbClr val="7f69b5"/>
                    </a:gs>
                  </a:gsLst>
                  <a:path path="rect">
                    <a:fillToRect l="50000" t="50000" r="50000" b="50000"/>
                  </a:path>
                </a:gradFill>
                <a:latin typeface="High Tower Text"/>
              </a:rPr>
              <a:t>of his Theorem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8d117"/>
                  </a:gs>
                  <a:gs pos="100000">
                    <a:srgbClr val="7f69b5"/>
                  </a:gs>
                </a:gsLst>
                <a:path path="rect">
                  <a:fillToRect l="50000" t="50000" r="50000" b="50000"/>
                </a:path>
              </a:gradFill>
              <a:latin typeface="High Tower Text"/>
              <a:ea typeface="High Tower Text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400800" y="3809880"/>
            <a:ext cx="2514600" cy="289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304920" y="3809880"/>
            <a:ext cx="5870520" cy="25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atin typeface="High Tower Text"/>
              </a:rPr>
              <a:t>While in Croton, Pythagoras urged th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atin typeface="High Tower Text"/>
              <a:ea typeface="High Tower Tex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atin typeface="High Tower Text"/>
              </a:rPr>
              <a:t>citizens to form an elit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atin typeface="High Tower Text"/>
              <a:ea typeface="High Tower Tex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atin typeface="High Tower Text"/>
              </a:rPr>
              <a:t>circle of followers around himself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atin typeface="High Tower Text"/>
              <a:ea typeface="High Tower Tex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atin typeface="High Tower Text"/>
              </a:rPr>
              <a:t>They were called the Pythagoreans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atin typeface="High Tower Text"/>
              <a:ea typeface="High Tower Tex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52280" y="380880"/>
            <a:ext cx="8991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cc99"/>
                    </a:gs>
                  </a:gsLst>
                  <a:path path="rect">
                    <a:fillToRect l="50000" t="50000" r="50000" b="50000"/>
                  </a:path>
                </a:gradFill>
                <a:latin typeface="High Tower Text"/>
              </a:rPr>
              <a:t>The Pythagoreans followed strict rules of conduct :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cc99"/>
                  </a:gs>
                </a:gsLst>
                <a:path path="rect">
                  <a:fillToRect l="50000" t="50000" r="50000" b="50000"/>
                </a:path>
              </a:gradFill>
              <a:latin typeface="High Tower Text"/>
              <a:ea typeface="High Tower Tex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838080" y="1600200"/>
            <a:ext cx="749484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0c256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atin typeface="High Tower Text"/>
              </a:rPr>
              <a:t>They lived at the school,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0c256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atin typeface="High Tower Text"/>
              <a:ea typeface="High Tower Tex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0c256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atin typeface="High Tower Text"/>
              </a:rPr>
              <a:t>They owned no personal possessions,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0c256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atin typeface="High Tower Text"/>
              <a:ea typeface="High Tower Tex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0c256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atin typeface="High Tower Text"/>
              </a:rPr>
              <a:t>They became vegetarians,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0c256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atin typeface="High Tower Text"/>
              <a:ea typeface="High Tower Tex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0c256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atin typeface="High Tower Text"/>
              </a:rPr>
              <a:t>They followed structured daily routines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0c256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atin typeface="High Tower Text"/>
              <a:ea typeface="High Tower Tex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28600" y="4572000"/>
            <a:ext cx="86104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4eda3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atin typeface="High Tower Text"/>
              </a:rPr>
              <a:t>The 'pupils' of the school sang hymns to Apollo a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4eda3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atin typeface="High Tower Text"/>
              <a:ea typeface="High Tower Tex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4eda3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atin typeface="High Tower Text"/>
              </a:rPr>
              <a:t>used the lyre's music to cure illnes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4eda3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atin typeface="High Tower Text"/>
              <a:ea typeface="High Tower Tex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85800" y="380880"/>
            <a:ext cx="7823160" cy="2078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HYSinMun-MyeongJo"/>
              </a:rPr>
              <a:t>The Pythagoreans devoted their lives to th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HYSinMun-MyeongJo"/>
              <a:ea typeface="HYSinMun-MyeongJ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HYSinMun-MyeongJo"/>
              </a:rPr>
              <a:t>study of Mathematics and had a grea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HYSinMun-MyeongJo"/>
              <a:ea typeface="HYSinMun-MyeongJ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HYSinMun-MyeongJo"/>
              </a:rPr>
              <a:t>influence on later similar cults, particularl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HYSinMun-MyeongJo"/>
              <a:ea typeface="HYSinMun-MyeongJ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latin typeface="HYSinMun-MyeongJo"/>
              </a:rPr>
              <a:t>Rosicrucianism and Freemason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stretch/>
              </a:blipFill>
              <a:latin typeface="HYSinMun-MyeongJo"/>
              <a:ea typeface="HYSinMun-MyeongJo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80880" y="2819520"/>
            <a:ext cx="8458200" cy="838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stretch/>
                </a:blipFill>
                <a:latin typeface="High Tower Text"/>
              </a:rPr>
              <a:t>Both of these cults claimed to hav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stretch/>
              </a:blipFill>
              <a:latin typeface="High Tower Text"/>
              <a:ea typeface="High Tower Tex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2"/>
                  <a:srcRect/>
                  <a:stretch/>
                </a:blipFill>
                <a:latin typeface="High Tower Text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stretch/>
                </a:blipFill>
                <a:latin typeface="High Tower Text"/>
              </a:rPr>
              <a:t>evolved out of the Pythagoreans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80880" y="4114800"/>
            <a:ext cx="4496040" cy="2133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5"/>
                  <a:srcRect/>
                  <a:stretch/>
                </a:blipFill>
                <a:latin typeface="Centaur Festive MT Italic"/>
              </a:rPr>
              <a:t>The Pythagoreans also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6"/>
                <a:srcRect/>
                <a:stretch/>
              </a:blipFill>
              <a:latin typeface="Centaur Festive MT Italic"/>
              <a:ea typeface="Centaur Festive MT Ital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7"/>
                  <a:srcRect/>
                  <a:stretch/>
                </a:blipFill>
                <a:latin typeface="Centaur Festive MT Italic"/>
              </a:rPr>
              <a:t>had a great effect o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8"/>
                <a:srcRect/>
                <a:stretch/>
              </a:blipFill>
              <a:latin typeface="Centaur Festive MT Italic"/>
              <a:ea typeface="Centaur Festive MT Ital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9"/>
                  <a:srcRect/>
                  <a:stretch/>
                </a:blipFill>
                <a:latin typeface="Centaur Festive MT Italic"/>
              </a:rPr>
              <a:t>Middle Easter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0"/>
                <a:srcRect/>
                <a:stretch/>
              </a:blipFill>
              <a:latin typeface="Centaur Festive MT Italic"/>
              <a:ea typeface="Centaur Festive MT Ital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1"/>
                  <a:srcRect/>
                  <a:stretch/>
                </a:blipFill>
                <a:latin typeface="Centaur Festive MT Italic"/>
              </a:rPr>
              <a:t>numerolog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2"/>
                <a:srcRect/>
                <a:stretch/>
              </a:blipFill>
              <a:latin typeface="Centaur Festive MT Italic"/>
              <a:ea typeface="Centaur Festive MT Italic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3"/>
          <a:stretch/>
        </p:blipFill>
        <p:spPr>
          <a:xfrm>
            <a:off x="5356080" y="4343400"/>
            <a:ext cx="3483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04920" y="304920"/>
            <a:ext cx="8610480" cy="15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High Tower Text"/>
              </a:rPr>
              <a:t>However, this great mathematician is mos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High Tower Text"/>
              <a:ea typeface="High Tower Tex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High Tower Text"/>
              </a:rPr>
              <a:t>lavishly credited for his discovery of th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High Tower Text"/>
              <a:ea typeface="High Tower Tex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High Tower Text"/>
              </a:rPr>
              <a:t>Pythagorean Theorem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3657600"/>
            <a:ext cx="3657600" cy="2666880"/>
          </a:xfrm>
          <a:prstGeom prst="rtTriangl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295280" y="2362320"/>
            <a:ext cx="739152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latin typeface="High Tower Text"/>
              </a:rPr>
              <a:t>He realised that the lengt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stretch/>
              </a:blipFill>
              <a:latin typeface="High Tower Text"/>
              <a:ea typeface="High Tower Tex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latin typeface="High Tower Text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2"/>
                  <a:srcRect/>
                  <a:stretch/>
                </a:blipFill>
                <a:latin typeface="High Tower Text"/>
              </a:rPr>
              <a:t>of the longest sid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3"/>
                <a:srcRect/>
                <a:stretch/>
              </a:blipFill>
              <a:latin typeface="High Tower Text"/>
              <a:ea typeface="High Tower Tex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4"/>
                  <a:srcRect/>
                  <a:stretch/>
                </a:blipFill>
                <a:latin typeface="High Tower Text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5"/>
                  <a:srcRect/>
                  <a:stretch/>
                </a:blipFill>
                <a:latin typeface="High Tower Text"/>
              </a:rPr>
              <a:t>of any right - angled triangle squared is equival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6"/>
                <a:srcRect/>
                <a:stretch/>
              </a:blipFill>
              <a:latin typeface="High Tower Text"/>
              <a:ea typeface="High Tower Tex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7"/>
                  <a:srcRect/>
                  <a:stretch/>
                </a:blipFill>
                <a:latin typeface="High Tower Text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8"/>
                  <a:srcRect/>
                  <a:stretch/>
                </a:blipFill>
                <a:latin typeface="High Tower Text"/>
              </a:rPr>
              <a:t>to the sum of the lengths of the oth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9"/>
                <a:srcRect/>
                <a:stretch/>
              </a:blipFill>
              <a:latin typeface="High Tower Text"/>
              <a:ea typeface="High Tower Tex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0"/>
                  <a:srcRect/>
                  <a:stretch/>
                </a:blipFill>
                <a:latin typeface="High Tower Text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1"/>
                  <a:srcRect/>
                  <a:stretch/>
                </a:blipFill>
                <a:latin typeface="High Tower Text"/>
              </a:rPr>
              <a:t>two sides squared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2"/>
                <a:srcRect/>
                <a:stretch/>
              </a:blipFill>
              <a:latin typeface="High Tower Text"/>
              <a:ea typeface="High Tower Text"/>
            </a:endParaRPr>
          </a:p>
        </p:txBody>
      </p:sp>
      <p:sp>
        <p:nvSpPr>
          <p:cNvPr id="61" name=""/>
          <p:cNvSpPr/>
          <p:nvPr/>
        </p:nvSpPr>
        <p:spPr>
          <a:xfrm>
            <a:off x="4191120" y="556272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igh Tower Text"/>
              </a:rPr>
              <a:t>Simply - </a:t>
            </a:r>
            <a:r>
              <a:rPr b="1" lang="en-US" sz="3200" spc="-1" strike="noStrike">
                <a:solidFill>
                  <a:srgbClr val="853333"/>
                </a:solidFill>
                <a:latin typeface="Times New Roman"/>
              </a:rPr>
              <a:t>a2+b2=c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981080" y="6141960"/>
            <a:ext cx="3049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4eda3"/>
                </a:soli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4eda3"/>
              </a:solidFill>
              <a:latin typeface="Arial Black"/>
              <a:ea typeface="Arial Black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04920" y="4800600"/>
            <a:ext cx="3045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4eda3"/>
                </a:solidFill>
                <a:latin typeface="Arial Black"/>
              </a:rPr>
              <a:t>b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4eda3"/>
              </a:solidFill>
              <a:latin typeface="Arial Black"/>
              <a:ea typeface="Arial Black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286000" y="4800600"/>
            <a:ext cx="304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4eda3"/>
                </a:solidFill>
                <a:latin typeface="Arial Black"/>
              </a:rPr>
              <a:t>c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4eda3"/>
              </a:solidFill>
              <a:latin typeface="Arial Black"/>
              <a:ea typeface="Arial Black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5943600"/>
            <a:ext cx="3808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2816280" y="380880"/>
            <a:ext cx="3514680" cy="5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53333"/>
                    </a:gs>
                    <a:gs pos="100000">
                      <a:srgbClr val="cc3300"/>
                    </a:gs>
                  </a:gsLst>
                  <a:path path="rect">
                    <a:fillToRect l="50000" t="50000" r="50000" b="50000"/>
                  </a:path>
                </a:gradFill>
                <a:latin typeface="High Tower Text"/>
              </a:rPr>
              <a:t>So for example :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53333"/>
                  </a:gs>
                  <a:gs pos="100000">
                    <a:srgbClr val="cc3300"/>
                  </a:gs>
                </a:gsLst>
                <a:path path="rect">
                  <a:fillToRect l="50000" t="50000" r="50000" b="50000"/>
                </a:path>
              </a:gradFill>
              <a:latin typeface="High Tower Text"/>
              <a:ea typeface="High Tower Text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2438280"/>
            <a:ext cx="4572000" cy="3505320"/>
          </a:xfrm>
          <a:prstGeom prst="rtTriangl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56386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33520" y="2133720"/>
            <a:ext cx="30456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85640" y="5943600"/>
            <a:ext cx="3524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410080" y="5943600"/>
            <a:ext cx="333360" cy="3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3962520"/>
            <a:ext cx="304920" cy="43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819520" y="5770440"/>
            <a:ext cx="304560" cy="40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b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819520" y="3733920"/>
            <a:ext cx="304560" cy="40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c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75" name=""/>
          <p:cNvSpPr/>
          <p:nvPr/>
        </p:nvSpPr>
        <p:spPr>
          <a:xfrm>
            <a:off x="1371600" y="18288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= 3 and b = 4 c =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438280" y="24382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ly … a2 = 9 and b2 =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733920" y="3276720"/>
            <a:ext cx="25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… 9 + 16 =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0" y="32767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 =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648320" y="39448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fore c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743440" y="4583160"/>
            <a:ext cx="286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The longest side on the triangle is called the Hypoten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38080" y="12193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low is the right angled triangle XY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52280" y="228600"/>
            <a:ext cx="87631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High Tower Text"/>
              </a:rPr>
              <a:t>This also means that the area of the squa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High Tower Text"/>
              <a:ea typeface="High Tower Tex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High Tower Text"/>
              </a:rPr>
              <a:t>whose side is the hypotenuse 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High Tower Text"/>
              <a:ea typeface="High Tower Tex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High Tower Text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latin typeface="High Tower Text"/>
              </a:rPr>
              <a:t>equal to the sum of the areas of the squar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stretch/>
              </a:blipFill>
              <a:latin typeface="High Tower Text"/>
              <a:ea typeface="High Tower Tex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latin typeface="High Tower Text"/>
              </a:rPr>
              <a:t>whose sides are the triangle's other edges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stretch/>
              </a:blipFill>
              <a:latin typeface="High Tower Text"/>
              <a:ea typeface="High Tower Text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1"/>
          <a:stretch/>
        </p:blipFill>
        <p:spPr>
          <a:xfrm>
            <a:off x="609480" y="2362320"/>
            <a:ext cx="2886120" cy="36288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733920" y="2575800"/>
            <a:ext cx="223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2 = a2 + b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2"/>
          <a:stretch/>
        </p:blipFill>
        <p:spPr>
          <a:xfrm>
            <a:off x="4724280" y="3625920"/>
            <a:ext cx="2819520" cy="22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 rot="184200">
            <a:off x="380520" y="304920"/>
            <a:ext cx="8382240" cy="1218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Triangle">
              <a:avLst>
                <a:gd name="adj" fmla="val 230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Inkpen2 Script"/>
              </a:rPr>
              <a:t>Other uses of Pythagoras' theore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Inkpen2 Script"/>
              <a:ea typeface="Inkpen2 Script"/>
            </a:endParaRPr>
          </a:p>
        </p:txBody>
      </p:sp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5638680" y="2057400"/>
            <a:ext cx="3276720" cy="21844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228600" y="1905120"/>
            <a:ext cx="5029200" cy="20318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HYSinMun-MyeongJo"/>
              </a:rPr>
              <a:t>The Pythagorean tree is construct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HYSinMun-MyeongJo"/>
              <a:ea typeface="HYSinMun-MyeongJ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latin typeface="HYSinMun-MyeongJo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latin typeface="HYSinMun-MyeongJo"/>
              </a:rPr>
              <a:t>from squares, an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stretch/>
              </a:blipFill>
              <a:latin typeface="HYSinMun-MyeongJo"/>
              <a:ea typeface="HYSinMun-MyeongJ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stretch/>
                </a:blipFill>
                <a:latin typeface="HYSinMun-MyeongJo"/>
              </a:rPr>
              <a:t>is named after Pythagoras becau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stretch/>
              </a:blipFill>
              <a:latin typeface="HYSinMun-MyeongJo"/>
              <a:ea typeface="HYSinMun-MyeongJ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2"/>
                  <a:srcRect/>
                  <a:stretch/>
                </a:blipFill>
                <a:latin typeface="HYSinMun-MyeongJo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stretch/>
                </a:blipFill>
                <a:latin typeface="HYSinMun-MyeongJo"/>
              </a:rPr>
              <a:t>each triple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stretch/>
              </a:blipFill>
              <a:latin typeface="HYSinMun-MyeongJo"/>
              <a:ea typeface="HYSinMun-MyeongJ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5"/>
                  <a:srcRect/>
                  <a:stretch/>
                </a:blipFill>
                <a:latin typeface="HYSinMun-MyeongJo"/>
              </a:rPr>
              <a:t>squares enclos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6"/>
                <a:srcRect/>
                <a:stretch/>
              </a:blipFill>
              <a:latin typeface="HYSinMun-MyeongJo"/>
              <a:ea typeface="HYSinMun-MyeongJ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7"/>
                  <a:srcRect/>
                  <a:stretch/>
                </a:blipFill>
                <a:latin typeface="HYSinMun-MyeongJo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8"/>
                  <a:srcRect/>
                  <a:stretch/>
                </a:blipFill>
                <a:latin typeface="HYSinMun-MyeongJo"/>
              </a:rPr>
              <a:t>a right angled triangle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9"/>
                <a:srcRect/>
                <a:stretch/>
              </a:blipFill>
              <a:latin typeface="HYSinMun-MyeongJo"/>
              <a:ea typeface="HYSinMun-MyeongJo"/>
            </a:endParaRPr>
          </a:p>
        </p:txBody>
      </p:sp>
      <p:sp>
        <p:nvSpPr>
          <p:cNvPr id="89" name=""/>
          <p:cNvSpPr/>
          <p:nvPr/>
        </p:nvSpPr>
        <p:spPr>
          <a:xfrm>
            <a:off x="4648320" y="3581280"/>
            <a:ext cx="259056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91120" y="3218040"/>
            <a:ext cx="350496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0"/>
          <a:stretch/>
        </p:blipFill>
        <p:spPr>
          <a:xfrm>
            <a:off x="380880" y="4419720"/>
            <a:ext cx="2152800" cy="22352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2743200" y="4419720"/>
            <a:ext cx="6172200" cy="22352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1"/>
                  <a:srcRect/>
                  <a:stretch/>
                </a:blipFill>
                <a:latin typeface="HYSinMun-MyeongJo"/>
              </a:rPr>
              <a:t>The Lute of Pythagoras is a geometric form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2"/>
                <a:srcRect/>
                <a:stretch/>
              </a:blipFill>
              <a:latin typeface="HYSinMun-MyeongJo"/>
              <a:ea typeface="HYSinMun-MyeongJ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3"/>
                  <a:srcRect/>
                  <a:stretch/>
                </a:blipFill>
                <a:latin typeface="HYSinMun-MyeongJo"/>
              </a:rPr>
              <a:t>made up of pentagons wit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4"/>
                <a:srcRect/>
                <a:stretch/>
              </a:blipFill>
              <a:latin typeface="HYSinMun-MyeongJo"/>
              <a:ea typeface="HYSinMun-MyeongJ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5"/>
                  <a:srcRect/>
                  <a:stretch/>
                </a:blipFill>
                <a:latin typeface="HYSinMun-MyeongJo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6"/>
                  <a:srcRect/>
                  <a:stretch/>
                </a:blipFill>
                <a:latin typeface="HYSinMun-MyeongJo"/>
              </a:rPr>
              <a:t>inscribed pentagram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7"/>
                <a:srcRect/>
                <a:stretch/>
              </a:blipFill>
              <a:latin typeface="HYSinMun-MyeongJo"/>
              <a:ea typeface="HYSinMun-MyeongJ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8"/>
                  <a:srcRect/>
                  <a:stretch/>
                </a:blipFill>
                <a:latin typeface="HYSinMun-MyeongJo"/>
              </a:rPr>
              <a:t>joining the corners of the pentagons.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9"/>
                <a:srcRect/>
                <a:stretch/>
              </a:blipFill>
              <a:latin typeface="HYSinMun-MyeongJo"/>
              <a:ea typeface="HYSinMun-MyeongJ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0"/>
                  <a:srcRect/>
                  <a:stretch/>
                </a:blipFill>
                <a:latin typeface="HYSinMun-MyeongJo"/>
              </a:rPr>
              <a:t>There are an unlimited numb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1"/>
                <a:srcRect/>
                <a:stretch/>
              </a:blipFill>
              <a:latin typeface="HYSinMun-MyeongJo"/>
              <a:ea typeface="HYSinMun-MyeongJ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2"/>
                  <a:srcRect/>
                  <a:stretch/>
                </a:blipFill>
                <a:latin typeface="HYSinMun-MyeongJo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3"/>
                  <a:srcRect/>
                  <a:stretch/>
                </a:blipFill>
                <a:latin typeface="HYSinMun-MyeongJo"/>
              </a:rPr>
              <a:t>of pentagons in this lute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4"/>
                <a:srcRect/>
                <a:stretch/>
              </a:blipFill>
              <a:latin typeface="HYSinMun-MyeongJo"/>
              <a:ea typeface="HYSinMun-MyeongJo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85800" y="5867280"/>
            <a:ext cx="2209680" cy="6098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0T13:14:42Z</dcterms:created>
  <dc:creator>Lynda Hickman</dc:creator>
  <dc:description/>
  <dc:language>en-US</dc:language>
  <cp:lastModifiedBy>Lynda Hickman</cp:lastModifiedBy>
  <dcterms:modified xsi:type="dcterms:W3CDTF">2007-03-11T12:16:00Z</dcterms:modified>
  <cp:revision>11</cp:revision>
  <dc:subject/>
  <dc:title>No Slide Title</dc:title>
</cp:coreProperties>
</file>